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57FC-F6D9-45F3-9F2D-BB369F493A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1CE-8519-4B14-9149-DC3584DC5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7FF-1BCB-4915-8ADE-06A38F63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088-5F7D-424D-A253-D076166E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FF2-C52C-4830-8492-C74A34C8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654-18D4-4CD8-BA9A-F0C8B26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9D5A-78C6-4FFC-AC04-294A1B6D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8F45-875C-4D55-9B03-DD175A2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22F0-9D3B-45FB-95A7-27DCB4F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7A19-4C21-43CA-B55D-ED312EDA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B4A9-5B4C-4FC9-80AE-942A92A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47AA-FB76-4AC8-82D4-8717580E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9AC-7BDC-4106-B7E4-C456ACEA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208-4D62-4526-A240-E115229C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CB10-3928-4C87-B036-D156587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624-4CC3-4A11-906A-65CFB50D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A9D9-86CB-4CF6-9D56-1040C817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139-12B2-40CA-AE72-92C49F95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016-BF55-4C43-82B4-A96C3AE9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18D26-025F-48E2-B1D1-08CD26ED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DE7D1-1735-45C1-BA77-D553B81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94E0D-5B58-4A53-908B-629C1106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18A6D-FFB1-45F1-B7E1-D6F4604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40021-3C57-424F-8735-50F75FDE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3FC-4CC3-41EA-A0AA-D818FAB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3D6EE-8E9D-42AB-804F-836591A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A53BB-496F-4811-A27B-DD9D4CD4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5BE89-AB37-4403-9609-9E9FA967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DF9AA-A9AC-402A-A398-7464D25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BF937-5C37-4C54-B6CD-F95DB14C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A0636-B13C-454B-AC0B-BC2D5E49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DC841-F5E6-4438-928D-6A5CD831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74312-151E-4542-A276-FB64DA52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B64EF-A749-4F4B-8E07-AB19195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03C86-14A4-4B75-B824-284B9DAB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A54-A693-4701-91B1-47D48D26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31572-5D7F-4699-8ADA-6A60C57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79E22-77F1-445A-8FAA-0F3E8E4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8E83F-72AA-465C-8007-10746AFA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93D8F-120D-432F-A935-F3E90E3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1B6C3-057E-4E48-84E8-96029FB0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ACD7F-48D0-4647-B9D8-6052EB5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75A08-8B0C-4BDD-9FE5-171B31C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94A39-1E94-409F-B747-6D17F05E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0AF2A-6753-4AB1-BC43-F8283BD8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E925E-CFF9-4A84-97E6-9F50E844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F78-4992-4A53-BCE9-F4ACAFED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F5A02C-A1F1-48E5-A2A8-203A7519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B90E1-A3C5-4EF9-B83C-11AE26A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DEF4E-1686-494E-B6A1-1FB26F9F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D9348-45EF-40C3-A8EF-886A8E8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7DAB7-F000-4ADE-B35C-89F611D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E1D4C-E125-462C-A58B-9CACBD3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64E6C-1094-46D2-BBB9-A0B7FB10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41517-774D-4A12-BD5D-E6D52E1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DEB96-4373-4B9E-9A20-4123B8AD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184B8-CD2C-405C-BFB8-F7A4C0C2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921-5A96-49AF-A18E-4163A257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6C6AC-2D38-46A8-9BA3-48F63793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6E86F-7C9A-4094-9B00-693543D0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D213-1700-439D-849A-705E469C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00AE-55EA-4ED6-855D-3F4D7F7E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077F-6941-4163-91B3-9BCB8AB8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3432-F755-413E-8B0D-605D728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172B-38BD-4B8A-B840-4C5EA4DF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9367-3950-4C8F-810F-3BE58BB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DFB9-2201-4E55-B50B-1486273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D7AE0-ADCB-4CEC-A5EA-8902837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56C-2EBB-4E4B-A2C5-91C01965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77E6-153B-4CFA-98F5-24D95A9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533A-6F57-426B-BECD-0DFAF77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C1579-753D-4559-8DB1-C319E927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04FB8-9C66-4588-A31F-3CCCE3F9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2DB6F8-703C-4DD5-B002-E79404BD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E2F41-E63A-4783-BA94-D8898D0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D6CFC-B53D-419C-9670-04418E7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BB0C07-E788-4F4C-9292-9893DDE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A3E96-DDDA-4DC3-BC44-AEB4CB50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EEBBB-C5B3-490A-A26C-34E084CC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087-842C-4C09-A63A-70B8189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18222-5F62-493E-8C49-36A2249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99279-4DBB-40C2-BC42-46D9FEE3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21380-4E1F-4DD7-8BB3-EBC504C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437B1-7826-4DBF-B9B7-024977FF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E5FA8-A9F6-4C64-9E90-027F7E09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56C6-5BB8-4FA8-9D3D-34D7114F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919D-0445-4BF5-97EF-6F5BD9F1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3761-7A97-417D-A00D-0466AAD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2E33-79BA-44EB-B8F9-C80B7CF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B6B3-E4B2-481E-B0B9-B1336F0C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879-C87A-4C35-A5C0-BEA1FA9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A6E0-0ABD-4FCA-AD95-0D3F597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89C61-B4C5-46F2-9090-32C82D2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6EA08-A1DA-420E-AE45-BC00A24B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6EFB9-6D85-42BB-9661-6E71889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B81B4-B502-4BD7-85C8-102A4FA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B902-F3C4-4719-A51C-45EE01A5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0ED1A-C409-432F-ABA6-CC13EA34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C4BF-1252-4193-89C8-9B601552A1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927D-AD81-402E-926D-3E4FBF063638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D131-7B91-4599-8BCF-5F8802F6AFD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F133-7C19-4DC2-8243-77E2C93A11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0A8-B5F6-479B-B2F4-FAB4A68BDB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2F19-DAB9-4F41-9165-1730CBA1B8BD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C86-702F-483D-9899-372699DEF4B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B9D-58EE-4554-ADEF-8B86AD0DAF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nesty.org/" TargetMode="External"/><Relationship Id="rId2" Type="http://schemas.openxmlformats.org/officeDocument/2006/relationships/hyperlink" Target="http://www.jstor.org/stable/3180761. Retrieved on 2009-04-17" TargetMode="External"/><Relationship Id="rId3" Type="http://schemas.openxmlformats.org/officeDocument/2006/relationships/hyperlink" Target="http://203.147.147.39/achievement/index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9,4,Scope of work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AMNESTY INTERNATIONAL(AI)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By Yongzhi, Clement, Milton, Derrick, YiXiang, Liki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3" descr="amnesty-international-uk.jpg"/>
          <p:cNvPicPr/>
          <p:nvPr/>
        </p:nvPicPr>
        <p:blipFill>
          <a:blip r:embed="rId1"/>
          <a:stretch/>
        </p:blipFill>
        <p:spPr>
          <a:xfrm>
            <a:off x="2928960" y="428760"/>
            <a:ext cx="2857320" cy="4057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amnesty.jpg"/>
          <p:cNvPicPr/>
          <p:nvPr/>
        </p:nvPicPr>
        <p:blipFill>
          <a:blip r:embed="rId2"/>
          <a:stretch/>
        </p:blipFill>
        <p:spPr>
          <a:xfrm>
            <a:off x="1143000" y="4643280"/>
            <a:ext cx="11048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llenges faced by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71680" y="2071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tention/Abduction (faced by human rights defender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mear Campaigns (delegitimize, slander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ureaucratic Barriers (hamper organization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stricting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ny legal registration, or cease ope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struct fact-finding visi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rassme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ily (such as phone tapping, surveillan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treme (freezing assets, home raids, confiscation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94" name="Rectangle 4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486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onale for choosing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360" y="1599840"/>
            <a:ext cx="574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Longes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histo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roadest nam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recogni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lieved to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standard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for the human rights movements as a who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ffec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Pressure has had an effect on people’s own liv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Governments are persuaded to change their laws and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troversy especially concerning bia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nce subject to (our) pertinent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crutin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mnesty3.jpg"/>
          <p:cNvPicPr/>
          <p:nvPr/>
        </p:nvPicPr>
        <p:blipFill>
          <a:blip r:embed="rId2"/>
          <a:stretch/>
        </p:blipFill>
        <p:spPr>
          <a:xfrm>
            <a:off x="6357960" y="285768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rect/Personal impa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Human rights abuses anywhere are th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concern of peopl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everywhere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Locally in Singapo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Death penalty subject to scrut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Restrictive laws and defamation suits to muzzle critic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If AI succeeds in ‘persuading’ the Singaporean Government, this will have great implications especially concerning media freedom and publ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ough this is highly unlike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1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9680" y="1714680"/>
            <a:ext cx="57150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e Stop Torture campaign (Oct 2000 - Dec 2001) is AI's third global campaign on tor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Follows AI's first campaign denouncing torture (1972-1973) and its second focusing on the prevention of torture (1984)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ese campaigns contributed to the UN's adoption of the Convention against Torture, on (Human Rights Day) 10 December 1984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Rectangle 3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amnesty2.jpg"/>
          <p:cNvPicPr/>
          <p:nvPr/>
        </p:nvPicPr>
        <p:blipFill>
          <a:blip r:embed="rId3"/>
          <a:stretch/>
        </p:blipFill>
        <p:spPr>
          <a:xfrm>
            <a:off x="6500880" y="2786040"/>
            <a:ext cx="1944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hieve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n the first five months of the Stop Torture campaign, over 19,500 subscribers from 188 countries used this innovative form of campaigning on behalf of eight individu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Within 12 hours of each action, an average of 2,500 appeals was generat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ree of the eight individuals (in Turkey, Mexico, and Ecuador) have been releas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719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Validit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orture is cruel, inhuman and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degrading human digni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vernments have invoked threats of terrorism to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cover up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and justify its use, hence the need to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trengthen importanc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of this issu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oundn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Key issue: Can 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stop shielding torturers and accept responsibility for their crimes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have a clear duty to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protect their civilian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population from violent attacks, including terrorist ac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who are concerned with their image will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spurred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Those who do not stop torture will ironically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harming their civilians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and thus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subject to severe criticis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4" descr=""/>
          <p:cNvPicPr/>
          <p:nvPr/>
        </p:nvPicPr>
        <p:blipFill>
          <a:blip r:embed="rId2"/>
          <a:stretch/>
        </p:blipFill>
        <p:spPr>
          <a:xfrm>
            <a:off x="262080" y="75564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Peter888\AppData\Local\Microsoft\Windows\Temporary Internet Files\Content.IE5\S5CKZYMN\MCWB01372_0000[1].gif"/>
          <p:cNvPicPr/>
          <p:nvPr/>
        </p:nvPicPr>
        <p:blipFill>
          <a:blip r:embed="rId3"/>
          <a:stretch/>
        </p:blipFill>
        <p:spPr>
          <a:xfrm>
            <a:off x="2357280" y="16430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Peter888\AppData\Local\Microsoft\Windows\Temporary Internet Files\Content.IE5\S5CKZYMN\MCWB01372_0000[1].gif"/>
          <p:cNvPicPr/>
          <p:nvPr/>
        </p:nvPicPr>
        <p:blipFill>
          <a:blip r:embed="rId4"/>
          <a:stretch/>
        </p:blipFill>
        <p:spPr>
          <a:xfrm>
            <a:off x="2428920" y="32148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Peter888\AppData\Local\Microsoft\Windows\Temporary Internet Files\Content.IE5\S5CKZYMN\MCWB01372_0000[1].gif"/>
          <p:cNvPicPr/>
          <p:nvPr/>
        </p:nvPicPr>
        <p:blipFill>
          <a:blip r:embed="rId5"/>
          <a:stretch/>
        </p:blipFill>
        <p:spPr>
          <a:xfrm>
            <a:off x="642960" y="6286680"/>
            <a:ext cx="352440" cy="3333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9"/>
          <p:cNvSpPr/>
          <p:nvPr/>
        </p:nvSpPr>
        <p:spPr>
          <a:xfrm>
            <a:off x="1071720" y="6286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Is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 Is n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4" descr="C:\Users\Peter888\AppData\Local\Microsoft\Windows\Temporary Internet Files\Content.IE5\Z664YCSX\MCNA01595A0000[1].gif"/>
          <p:cNvPicPr/>
          <p:nvPr/>
        </p:nvPicPr>
        <p:blipFill>
          <a:blip r:embed="rId6"/>
          <a:stretch/>
        </p:blipFill>
        <p:spPr>
          <a:xfrm>
            <a:off x="2357280" y="6215040"/>
            <a:ext cx="500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360" y="1599840"/>
            <a:ext cx="81025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Relev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ilure to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uphol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nternational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blig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Even USA  has undermined human rights in the context of counter-terrorism while continuing to pay lip service to international oblig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However, relevance in our local context is limited due to these acts often taking place under </a:t>
            </a:r>
            <a:r>
              <a:rPr b="1" lang="en-SG" sz="2400" spc="-1" strike="noStrike">
                <a:solidFill>
                  <a:srgbClr val="000000"/>
                </a:solidFill>
                <a:latin typeface="Tw Cen MT"/>
              </a:rPr>
              <a:t>clandestine</a:t>
            </a: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 conditions (convenience of secrecy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100" spc="-1" strike="noStrike">
                <a:solidFill>
                  <a:srgbClr val="000000"/>
                </a:solidFill>
                <a:latin typeface="Tw Cen MT"/>
              </a:rPr>
              <a:t>Moreover, little concrete action taken to effectively undertake investigations (due to fear and </a:t>
            </a:r>
            <a:r>
              <a:rPr b="1" lang="en-SG" sz="2100" spc="-1" strike="noStrike">
                <a:solidFill>
                  <a:srgbClr val="000000"/>
                </a:solidFill>
                <a:latin typeface="Tw Cen MT"/>
              </a:rPr>
              <a:t>implications of exposure</a:t>
            </a:r>
            <a:r>
              <a:rPr b="0" lang="en-SG" sz="21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Users\Peter888\AppData\Local\Microsoft\Windows\Temporary Internet Files\Content.IE5\S5CKZYMN\MCWB01372_0000[1].gif"/>
          <p:cNvPicPr/>
          <p:nvPr/>
        </p:nvPicPr>
        <p:blipFill>
          <a:blip r:embed="rId3"/>
          <a:stretch/>
        </p:blipFill>
        <p:spPr>
          <a:xfrm>
            <a:off x="642960" y="6286680"/>
            <a:ext cx="352440" cy="3333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1071720" y="6286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Is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 Is n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6" name="Picture 4" descr="C:\Users\Peter888\AppData\Local\Microsoft\Windows\Temporary Internet Files\Content.IE5\Z664YCSX\MCNA01595A0000[1].gif"/>
          <p:cNvPicPr/>
          <p:nvPr/>
        </p:nvPicPr>
        <p:blipFill>
          <a:blip r:embed="rId4"/>
          <a:stretch/>
        </p:blipFill>
        <p:spPr>
          <a:xfrm>
            <a:off x="2357280" y="621504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eter888\AppData\Local\Microsoft\Windows\Temporary Internet Files\Content.IE5\S5CKZYMN\MCWB01372_0000[1].gif"/>
          <p:cNvPicPr/>
          <p:nvPr/>
        </p:nvPicPr>
        <p:blipFill>
          <a:blip r:embed="rId5"/>
          <a:stretch/>
        </p:blipFill>
        <p:spPr>
          <a:xfrm>
            <a:off x="7929720" y="57150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Users\Peter888\AppData\Local\Microsoft\Windows\Temporary Internet Files\Content.IE5\Z664YCSX\MCNA01595A0000[1].gif"/>
          <p:cNvPicPr/>
          <p:nvPr/>
        </p:nvPicPr>
        <p:blipFill>
          <a:blip r:embed="rId6"/>
          <a:stretch/>
        </p:blipFill>
        <p:spPr>
          <a:xfrm>
            <a:off x="8286840" y="5643720"/>
            <a:ext cx="500040" cy="504720"/>
          </a:xfrm>
          <a:prstGeom prst="rect">
            <a:avLst/>
          </a:prstGeom>
          <a:ln w="0">
            <a:noFill/>
          </a:ln>
        </p:spPr>
      </p:pic>
      <p:pic>
        <p:nvPicPr>
          <p:cNvPr id="429" name="Rectangle 10" descr=""/>
          <p:cNvPicPr/>
          <p:nvPr/>
        </p:nvPicPr>
        <p:blipFill>
          <a:blip r:embed="rId7"/>
          <a:stretch/>
        </p:blipFill>
        <p:spPr>
          <a:xfrm>
            <a:off x="-792000" y="5132520"/>
            <a:ext cx="102963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2214360"/>
            <a:ext cx="81532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Failur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o address the underlying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States have made their own self-interest in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removing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a particular individual their priority, rather than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seeking to change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the underlying problem of torture in the receiving country as a wh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is is a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betrayal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some of the state’s most fundamental obligations in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international human rights la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Moral degradation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s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eglig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victi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33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34" name="Rectangle 5" descr=""/>
          <p:cNvPicPr/>
          <p:nvPr/>
        </p:nvPicPr>
        <p:blipFill>
          <a:blip r:embed="rId3"/>
          <a:stretch/>
        </p:blipFill>
        <p:spPr>
          <a:xfrm>
            <a:off x="1116000" y="1536840"/>
            <a:ext cx="6832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7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5" descr=""/>
          <p:cNvPicPr/>
          <p:nvPr/>
        </p:nvPicPr>
        <p:blipFill>
          <a:blip r:embed="rId3"/>
          <a:stretch/>
        </p:blipFill>
        <p:spPr>
          <a:xfrm>
            <a:off x="1206360" y="1420920"/>
            <a:ext cx="6804000" cy="865080"/>
          </a:xfrm>
          <a:prstGeom prst="rect">
            <a:avLst/>
          </a:prstGeom>
          <a:ln w="0">
            <a:noFill/>
          </a:ln>
        </p:spPr>
      </p:pic>
      <p:pic>
        <p:nvPicPr>
          <p:cNvPr id="439" name="Content Placeholder 7" descr=""/>
          <p:cNvPicPr/>
          <p:nvPr/>
        </p:nvPicPr>
        <p:blipFill>
          <a:blip r:embed="rId4"/>
          <a:stretch/>
        </p:blipFill>
        <p:spPr>
          <a:xfrm>
            <a:off x="566640" y="2090880"/>
            <a:ext cx="81630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bl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mnesty.org/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- Amnesty International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Buchanan, Tom (October 2002). "'The Truth Will Set You Free': The Making of Amnesty International". </a:t>
            </a:r>
            <a:r>
              <a:rPr b="0" i="1" lang="en-SG" sz="2900" spc="-1" strike="noStrike">
                <a:solidFill>
                  <a:srgbClr val="000000"/>
                </a:solidFill>
                <a:latin typeface="Tw Cen MT"/>
              </a:rPr>
              <a:t>Journal of Contemporary History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(4): 575–597. </a:t>
            </a:r>
            <a:r>
              <a:rPr b="0" lang="en-SG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jstor.org/stable/3180761. Retrieved on 2009-04-1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http://203.147.147.39/achievement/index.html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- AI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3" descr="amnesty.jpg"/>
          <p:cNvPicPr/>
          <p:nvPr/>
        </p:nvPicPr>
        <p:blipFill>
          <a:blip r:embed="rId4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AI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71680" y="19335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Founded by Peter Benenson in London 196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national Non-Governmental Organisation(NGO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sson: 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“To conduct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research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generate action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o prevent and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end grave abuses of human rights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nd to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demand justi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for those whose rights have been violated.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2.2 million members and suppor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5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C:\Users\Peter888\AppData\Local\Microsoft\Windows\Temporary Internet Files\Content.IE5\Z664YCSX\MCj03605160000[1].wmf"/>
          <p:cNvPicPr/>
          <p:nvPr/>
        </p:nvPicPr>
        <p:blipFill>
          <a:blip r:embed="rId2"/>
          <a:stretch/>
        </p:blipFill>
        <p:spPr>
          <a:xfrm>
            <a:off x="2643120" y="2643120"/>
            <a:ext cx="371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ork AI do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Exerts influ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n governments, political bodies, companies and intergovernmental grou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Mobilizes public pressur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hrough mass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demonstrations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, vigils and direct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lobbying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s well as online and offlin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campaigning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rough appealing, AI thus pressures the ‘target’ to ‘respect the rule of law’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143160" y="4946760"/>
            <a:ext cx="2357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ope of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Women's Righ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hildren's Righ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Ending Torture and Execu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ights of Refug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ights of Prisoners of Conscience (Refers to people imprisoned due to their race, religion, sexual orientation, belief etc, and those persecuted for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on-violent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expression of their ‘conscientiously-held’ beliefs, so long as they hav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ot advocated viol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amnesty4.jpg"/>
          <p:cNvPicPr/>
          <p:nvPr/>
        </p:nvPicPr>
        <p:blipFill>
          <a:blip r:embed="rId2"/>
          <a:stretch/>
        </p:blipFill>
        <p:spPr>
          <a:xfrm>
            <a:off x="6215040" y="1643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ims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360" y="1599840"/>
            <a:ext cx="638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Stop violence against wom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Defend the rights and dignity of those trapped in pover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Abolish the death penal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Oppose torture and combat terror with jus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Free prisoners of consc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Protect the rights of refugees and migr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egulate the global arms tr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200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AI does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ampaig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Mobilise public opin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3 Types: Individual, national or themat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Direct appeal (such as letter writing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Media and publicity 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Public demonst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undraisin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often coupled with campaig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rgent matters: Urgent Action (UA) appeals (involves 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urgent action networks or crisis response network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Other matters: Membershi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6357960" y="214308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AI does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ssues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press rel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Publishes information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in newsletters and on webs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fficial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missions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to countries to make courteous but insistent inqui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blication of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p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nvolves research via interviews with victims and offici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bserving trials and thus evaluate th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Collaborations with local human rights activis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Monitoring the med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onale for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I envisions for everyone to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enjoy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all of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human rights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enshrined in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Universal Declaration of Human Rights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and other international human rights standard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To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prevent and end grave abuses 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of the rights to physical and mental integrity (defined within </a:t>
            </a:r>
            <a:r>
              <a:rPr b="0" lang="en-SG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scope of work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Argues that human rights abuses anywhere are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concern of people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everywh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Outraged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by human rights abuses but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inspired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by hope for a better world, they go about doing their wor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amnesty.jpg"/>
          <p:cNvPicPr/>
          <p:nvPr/>
        </p:nvPicPr>
        <p:blipFill>
          <a:blip r:embed="rId2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llenges faced by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6196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riticised for ideological b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ne-sid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Failure to consider threats to security as a mitigating fact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riticised for reporting disproportionately on relatively more democratic and open countr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However AI argues that its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intention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is not to produce a range of reports which statistically represents the world’s human rights abuses, but rather to apply the pressure of public opinion to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encourage improve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le 4" descr=""/>
          <p:cNvPicPr/>
          <p:nvPr/>
        </p:nvPicPr>
        <p:blipFill>
          <a:blip r:embed="rId2"/>
          <a:stretch/>
        </p:blipFill>
        <p:spPr>
          <a:xfrm>
            <a:off x="2859120" y="1285920"/>
            <a:ext cx="3365640" cy="1146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3"/>
          <a:stretch/>
        </p:blipFill>
        <p:spPr>
          <a:xfrm>
            <a:off x="6215040" y="1571760"/>
            <a:ext cx="150012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1:29:48Z</dcterms:created>
  <dc:creator>Lixin</dc:creator>
  <dc:description/>
  <dc:language>en-US</dc:language>
  <cp:lastModifiedBy>Lixin</cp:lastModifiedBy>
  <dcterms:modified xsi:type="dcterms:W3CDTF">2009-04-19T04:57:47Z</dcterms:modified>
  <cp:revision>25</cp:revision>
  <dc:subject/>
  <dc:title>Amnesty International</dc:title>
</cp:coreProperties>
</file>